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-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3"/>
          <a:srcRect l="0" t="0" r="0" b="13652"/>
          <a:stretch/>
        </p:blipFill>
        <p:spPr>
          <a:xfrm>
            <a:off x="20520" y="1879560"/>
            <a:ext cx="12954240" cy="5994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282480" y="1418760"/>
            <a:ext cx="643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"/>
              </a:rPr>
              <a:t>Concepts and approach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690440" y="7873920"/>
            <a:ext cx="362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"/>
              </a:rPr>
              <a:t>Jens A. Anderss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973080" y="2844720"/>
            <a:ext cx="1109988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7520" indent="-317520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spcBef>
                <a:spcPts val="38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</a:rPr>
              <a:t>Participatory approa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973080" y="2819520"/>
            <a:ext cx="1109988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7520" indent="-317520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spcBef>
                <a:spcPts val="2500"/>
              </a:spcBef>
              <a:buClr>
                <a:srgbClr val="ff7f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7f00"/>
                </a:solidFill>
                <a:latin typeface="Gill Sans"/>
              </a:rPr>
              <a:t>System perspec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98320" y="2819520"/>
            <a:ext cx="11849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7520" indent="-317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Demand-driven R4D:  Whose deman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Livelihoods focus: Context (of farming practic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Diversity: Differentiated demand/options (for SI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646200" y="2527200"/>
            <a:ext cx="11980800" cy="4178520"/>
          </a:xfrm>
          <a:prstGeom prst="roundRect">
            <a:avLst>
              <a:gd name="adj" fmla="val 4755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785880" y="2666880"/>
            <a:ext cx="11661840" cy="2400480"/>
          </a:xfrm>
          <a:prstGeom prst="roundRect">
            <a:avLst>
              <a:gd name="adj" fmla="val 5782"/>
            </a:avLst>
          </a:prstGeom>
          <a:noFill/>
          <a:ln w="5076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87520" y="1558800"/>
            <a:ext cx="1023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Key Concepts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0"/>
          <p:cNvSpPr/>
          <p:nvPr/>
        </p:nvSpPr>
        <p:spPr>
          <a:xfrm rot="5400000">
            <a:off x="1801800" y="6997680"/>
            <a:ext cx="1104840" cy="596880"/>
          </a:xfrm>
          <a:prstGeom prst="leftRightArrow">
            <a:avLst>
              <a:gd name="adj1" fmla="val 48944"/>
              <a:gd name="adj2" fmla="val 65951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AutoShape 11"/>
          <p:cNvSpPr/>
          <p:nvPr/>
        </p:nvSpPr>
        <p:spPr>
          <a:xfrm rot="16200000">
            <a:off x="1927080" y="5207040"/>
            <a:ext cx="876240" cy="634680"/>
          </a:xfrm>
          <a:prstGeom prst="rightArrow">
            <a:avLst>
              <a:gd name="adj1" fmla="val 46000"/>
              <a:gd name="adj2" fmla="val 69030"/>
            </a:avLst>
          </a:prstGeom>
          <a:solidFill>
            <a:srgbClr val="ff7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3871800" y="1574640"/>
            <a:ext cx="3003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&amp; Approa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127160" y="2730600"/>
            <a:ext cx="116078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7520" indent="-3175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to focus stakeholder networks on weaker actors 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vulnerable farmers, wome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as strategy to link Research to Development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action-oriented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beyond researcher-identified diversity/problem identification/options 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livelihood strategy focu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Engaging with farmers and other stakehold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041480" y="1574640"/>
            <a:ext cx="1023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Why a participatory R&amp;D? 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066680" y="1625760"/>
            <a:ext cx="109350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Research for development - R</a:t>
            </a:r>
            <a:r>
              <a:rPr b="1" i="1" lang="en-US" sz="4200" spc="-1" strike="noStrike">
                <a:solidFill>
                  <a:srgbClr val="000000"/>
                </a:solidFill>
                <a:latin typeface="Gill Sans"/>
              </a:rPr>
              <a:t>4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063800" y="3251160"/>
            <a:ext cx="1183608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7520" indent="-3175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Research for Develop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(Agricultural) Research and Develop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buClr>
                <a:srgbClr val="ff271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Gill Sans"/>
              </a:rPr>
              <a:t>Participatory Research and Develop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Participatory Action Research and Develop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423160" y="3458160"/>
            <a:ext cx="3178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97100"/>
                </a:solidFill>
                <a:latin typeface="Gill Sans"/>
              </a:rPr>
              <a:t>demand-l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8772120" y="2962800"/>
            <a:ext cx="1026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Gill Sans Light"/>
              </a:rPr>
              <a:t>R4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8604360" y="5274360"/>
            <a:ext cx="2887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e00f0"/>
                </a:solidFill>
                <a:latin typeface="Gill Sans"/>
              </a:rPr>
              <a:t>livelihood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429200" y="5274360"/>
            <a:ext cx="23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a00e6"/>
                </a:solidFill>
                <a:latin typeface="Gill Sans"/>
              </a:rPr>
              <a:t>divers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580000" y="4550400"/>
            <a:ext cx="2597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0b00"/>
                </a:solidFill>
                <a:latin typeface="Gill Sans Light"/>
              </a:rPr>
              <a:t>typo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131480" y="2086560"/>
            <a:ext cx="654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58e28"/>
                </a:solidFill>
                <a:latin typeface="Gill Sans"/>
              </a:rPr>
              <a:t>sustainable intensifica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6162840" y="70268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1a1a"/>
                </a:solidFill>
                <a:latin typeface="Gill Sans Light"/>
              </a:rPr>
              <a:t>food secur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444200" y="5922000"/>
            <a:ext cx="187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30a1f"/>
                </a:solidFill>
                <a:latin typeface="Gill Sans"/>
              </a:rPr>
              <a:t>wom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092240" y="1581120"/>
            <a:ext cx="10934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Research for development / R4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181160" y="2971800"/>
            <a:ext cx="11836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7520" indent="-3175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Research </a:t>
            </a:r>
            <a:r>
              <a:rPr b="0" i="1" lang="en-US" sz="4200" spc="-1" strike="noStrike">
                <a:solidFill>
                  <a:srgbClr val="000000"/>
                </a:solidFill>
                <a:latin typeface="Gill Sans Light"/>
              </a:rPr>
              <a:t>for</a:t>
            </a: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 Develop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(Agricultural) Research </a:t>
            </a:r>
            <a:r>
              <a:rPr b="0" i="1" lang="en-US" sz="4200" spc="-1" strike="noStrike">
                <a:solidFill>
                  <a:srgbClr val="000000"/>
                </a:solidFill>
                <a:latin typeface="Gill Sans Light"/>
              </a:rPr>
              <a:t>and</a:t>
            </a: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 Develop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Participatory Research and Develop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Participatory Action Research and Develop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" name="Group 8" descr=""/>
          <p:cNvPicPr/>
          <p:nvPr/>
        </p:nvPicPr>
        <p:blipFill>
          <a:blip r:embed="rId3"/>
          <a:stretch/>
        </p:blipFill>
        <p:spPr>
          <a:xfrm>
            <a:off x="878040" y="5334120"/>
            <a:ext cx="1068048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203480" y="2819520"/>
            <a:ext cx="1109952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7520" indent="-317520">
              <a:lnSpc>
                <a:spcPct val="100000"/>
              </a:lnSpc>
              <a:spcBef>
                <a:spcPts val="51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Demand-driven R&amp;D: </a:t>
            </a:r>
            <a:r>
              <a:rPr b="0" i="1" lang="en-US" sz="4200" spc="-1" strike="noStrike">
                <a:solidFill>
                  <a:srgbClr val="000000"/>
                </a:solidFill>
                <a:latin typeface="Gill Sans Light"/>
              </a:rPr>
              <a:t>Whose deman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spcBef>
                <a:spcPts val="51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Livelihoods focus: </a:t>
            </a:r>
            <a:r>
              <a:rPr b="0" i="1" lang="en-US" sz="4200" spc="-1" strike="noStrike">
                <a:solidFill>
                  <a:srgbClr val="000000"/>
                </a:solidFill>
                <a:latin typeface="Gill Sans Light"/>
              </a:rPr>
              <a:t>Context </a:t>
            </a:r>
            <a:r>
              <a:rPr b="0" i="1" lang="en-US" sz="3600" spc="-1" strike="noStrike">
                <a:solidFill>
                  <a:srgbClr val="000000"/>
                </a:solidFill>
                <a:latin typeface="Gill Sans Light"/>
              </a:rPr>
              <a:t>(of farming practices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spcBef>
                <a:spcPts val="51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Diversity: </a:t>
            </a:r>
            <a:r>
              <a:rPr b="0" i="1" lang="en-US" sz="4200" spc="-1" strike="noStrike">
                <a:solidFill>
                  <a:srgbClr val="000000"/>
                </a:solidFill>
                <a:latin typeface="Gill Sans Light"/>
              </a:rPr>
              <a:t>Differentiated demand/options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155600" y="1574640"/>
            <a:ext cx="1023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Key concepts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Line 4"/>
          <p:cNvSpPr/>
          <p:nvPr/>
        </p:nvSpPr>
        <p:spPr>
          <a:xfrm>
            <a:off x="2141640" y="5133960"/>
            <a:ext cx="8704080" cy="1440"/>
          </a:xfrm>
          <a:prstGeom prst="line">
            <a:avLst/>
          </a:prstGeom>
          <a:ln w="127080">
            <a:solidFill>
              <a:srgbClr val="0000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90440" y="4133880"/>
            <a:ext cx="31752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ill Sans"/>
              </a:rPr>
              <a:t>Farmer direc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9575640" y="4140360"/>
            <a:ext cx="31752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ill Sans"/>
              </a:rPr>
              <a:t>Researcher direc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079640" y="1574640"/>
            <a:ext cx="46227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Whose deman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who defines demand?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2287440" y="3733920"/>
            <a:ext cx="2486160" cy="685800"/>
          </a:xfrm>
          <a:prstGeom prst="wedgeEllipseCallout">
            <a:avLst>
              <a:gd name="adj1" fmla="val -3092"/>
              <a:gd name="adj2" fmla="val 147888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rolinno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" name="Group 19"/>
          <p:cNvGrpSpPr/>
          <p:nvPr/>
        </p:nvGrpSpPr>
        <p:grpSpPr>
          <a:xfrm>
            <a:off x="1792440" y="2222640"/>
            <a:ext cx="9711720" cy="4061520"/>
            <a:chOff x="1792440" y="2222640"/>
            <a:chExt cx="9711720" cy="4061520"/>
          </a:xfrm>
        </p:grpSpPr>
        <p:sp>
          <p:nvSpPr>
            <p:cNvPr id="79" name="Rectangle 4"/>
            <p:cNvSpPr/>
            <p:nvPr/>
          </p:nvSpPr>
          <p:spPr>
            <a:xfrm>
              <a:off x="1792440" y="3733920"/>
              <a:ext cx="46479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7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(in)formal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 algn="ctr">
                <a:lnSpc>
                  <a:spcPct val="7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 </a:t>
              </a: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social structures 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7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(trust, groups membership,...)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" name="Line 5"/>
            <p:cNvSpPr/>
            <p:nvPr/>
          </p:nvSpPr>
          <p:spPr>
            <a:xfrm flipH="1">
              <a:off x="5463720" y="4165920"/>
              <a:ext cx="761400" cy="99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" name="Line 6"/>
            <p:cNvSpPr/>
            <p:nvPr/>
          </p:nvSpPr>
          <p:spPr>
            <a:xfrm flipH="1" flipV="1">
              <a:off x="6225840" y="4165560"/>
              <a:ext cx="761760" cy="99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" name="Line 7"/>
            <p:cNvSpPr/>
            <p:nvPr/>
          </p:nvSpPr>
          <p:spPr>
            <a:xfrm flipH="1">
              <a:off x="6225840" y="3861000"/>
              <a:ext cx="121896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5159160" y="3861000"/>
              <a:ext cx="106632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6225840" y="2946600"/>
              <a:ext cx="1440" cy="1219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5524200" y="228600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Huma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" name="Rectangle 11"/>
            <p:cNvSpPr/>
            <p:nvPr/>
          </p:nvSpPr>
          <p:spPr>
            <a:xfrm>
              <a:off x="3241440" y="3362400"/>
              <a:ext cx="20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" name="Rectangle 12"/>
            <p:cNvSpPr/>
            <p:nvPr/>
          </p:nvSpPr>
          <p:spPr>
            <a:xfrm>
              <a:off x="7432560" y="3362400"/>
              <a:ext cx="17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Natura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" name="Rectangle 13"/>
            <p:cNvSpPr/>
            <p:nvPr/>
          </p:nvSpPr>
          <p:spPr>
            <a:xfrm>
              <a:off x="6975360" y="487692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Financia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3533400" y="4886640"/>
              <a:ext cx="21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" name="Rectangle 15"/>
            <p:cNvSpPr/>
            <p:nvPr/>
          </p:nvSpPr>
          <p:spPr>
            <a:xfrm>
              <a:off x="7734960" y="3746520"/>
              <a:ext cx="2568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Access to land, water, 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natural resource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3753720" y="5249880"/>
              <a:ext cx="170244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7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infrastructure,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 algn="ctr">
                <a:lnSpc>
                  <a:spcPct val="7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shelter,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 algn="ctr">
                <a:lnSpc>
                  <a:spcPct val="7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markets,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 algn="ctr">
                <a:lnSpc>
                  <a:spcPct val="7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" name="Rectangle 17"/>
            <p:cNvSpPr/>
            <p:nvPr/>
          </p:nvSpPr>
          <p:spPr>
            <a:xfrm>
              <a:off x="7010280" y="2222640"/>
              <a:ext cx="28699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knowledge, health, ability to work...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" name="Rectangle 18"/>
            <p:cNvSpPr/>
            <p:nvPr/>
          </p:nvSpPr>
          <p:spPr>
            <a:xfrm>
              <a:off x="6856200" y="5245200"/>
              <a:ext cx="46479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possessions (livestock, money), 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regular flows (wages, pensions), 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55478"/>
                  </a:solidFill>
                  <a:latin typeface="Verdana"/>
                </a:rPr>
                <a:t>insurance, credi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65160" y="6654960"/>
            <a:ext cx="11366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852120" indent="-497160"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Light"/>
              </a:rPr>
              <a:t>generally well-developed in livelihood analys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Light"/>
              </a:rPr>
              <a:t>(base-line survey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2120" indent="-49716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Light"/>
              </a:rPr>
              <a:t>result: household typologi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Light"/>
              </a:rPr>
              <a:t>(wealth-ranking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1066680" y="1574640"/>
            <a:ext cx="3441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Livelihoods foc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95120" y="3879720"/>
            <a:ext cx="1905120" cy="203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Freeform 2"/>
          <p:cNvSpPr/>
          <p:nvPr/>
        </p:nvSpPr>
        <p:spPr>
          <a:xfrm>
            <a:off x="1133640" y="2422440"/>
            <a:ext cx="5829120" cy="1460520"/>
          </a:xfrm>
          <a:custGeom>
            <a:avLst/>
            <a:gdLst>
              <a:gd name="textAreaLeft" fmla="*/ 0 w 5829120"/>
              <a:gd name="textAreaRight" fmla="*/ 5829480 w 5829120"/>
              <a:gd name="textAreaTop" fmla="*/ 0 h 1460520"/>
              <a:gd name="textAreaBottom" fmla="*/ 146088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8060"/>
                </a:moveTo>
                <a:lnTo>
                  <a:pt x="21600" y="0"/>
                </a:lnTo>
                <a:lnTo>
                  <a:pt x="0" y="0"/>
                </a:lnTo>
                <a:lnTo>
                  <a:pt x="0" y="21600"/>
                </a:lnTo>
              </a:path>
            </a:pathLst>
          </a:custGeom>
          <a:noFill/>
          <a:ln w="1015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120480" y="1497240"/>
            <a:ext cx="6765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Light"/>
              </a:rPr>
              <a:t>Sustainable livelihood framework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9818640" y="7943760"/>
            <a:ext cx="3327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Light"/>
              </a:rPr>
              <a:t>(Scoones cs/DFID, 1999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43080" y="4686480"/>
            <a:ext cx="1904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6000" indent="-216000"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hoc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16000" indent="-216000"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end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16000" indent="-216000"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asonal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2527200" y="2806560"/>
            <a:ext cx="1689120" cy="863640"/>
            <a:chOff x="2527200" y="2806560"/>
            <a:chExt cx="1689120" cy="863640"/>
          </a:xfrm>
        </p:grpSpPr>
        <p:sp>
          <p:nvSpPr>
            <p:cNvPr id="105" name="Rectangle 9"/>
            <p:cNvSpPr/>
            <p:nvPr/>
          </p:nvSpPr>
          <p:spPr>
            <a:xfrm>
              <a:off x="2527200" y="2806560"/>
              <a:ext cx="1689120" cy="863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76164" dir="2573584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2527200" y="2869920"/>
              <a:ext cx="16891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</a:rPr>
                <a:t>livelihood assets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7" name="Rectangle 12"/>
          <p:cNvSpPr/>
          <p:nvPr/>
        </p:nvSpPr>
        <p:spPr>
          <a:xfrm>
            <a:off x="5651640" y="2832120"/>
            <a:ext cx="2577960" cy="11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689440" y="2908440"/>
            <a:ext cx="257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forming structures &amp; processe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8394840" y="4241880"/>
            <a:ext cx="1689120" cy="939600"/>
            <a:chOff x="8394840" y="4241880"/>
            <a:chExt cx="1689120" cy="939600"/>
          </a:xfrm>
        </p:grpSpPr>
        <p:sp>
          <p:nvSpPr>
            <p:cNvPr id="110" name="Rectangle 14"/>
            <p:cNvSpPr/>
            <p:nvPr/>
          </p:nvSpPr>
          <p:spPr>
            <a:xfrm>
              <a:off x="8394840" y="4241880"/>
              <a:ext cx="1689120" cy="939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76164" dir="2573584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" name="Rectangle 15"/>
            <p:cNvSpPr/>
            <p:nvPr/>
          </p:nvSpPr>
          <p:spPr>
            <a:xfrm>
              <a:off x="8394840" y="4304880"/>
              <a:ext cx="16891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</a:rPr>
                <a:t>livelihood strategie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2" name="Rectangle 17"/>
          <p:cNvSpPr/>
          <p:nvPr/>
        </p:nvSpPr>
        <p:spPr>
          <a:xfrm>
            <a:off x="10312560" y="3060720"/>
            <a:ext cx="2577960" cy="93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10337760" y="3137040"/>
            <a:ext cx="25272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velihood outcom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10312560" y="4000680"/>
            <a:ext cx="2577960" cy="256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10401480" y="4216320"/>
            <a:ext cx="2577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 incom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 well-being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lt; vulnerabil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 food secur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 sustainable resource u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5651640" y="4025880"/>
            <a:ext cx="2577960" cy="30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5651640" y="4425840"/>
            <a:ext cx="24508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aw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lture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lic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5791320" y="4299120"/>
            <a:ext cx="23112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UC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vels of govt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Line 24"/>
          <p:cNvSpPr/>
          <p:nvPr/>
        </p:nvSpPr>
        <p:spPr>
          <a:xfrm flipH="1">
            <a:off x="5651640" y="4905360"/>
            <a:ext cx="2573280" cy="177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25"/>
          <p:cNvSpPr/>
          <p:nvPr/>
        </p:nvSpPr>
        <p:spPr>
          <a:xfrm flipH="1">
            <a:off x="2984400" y="5084640"/>
            <a:ext cx="378000" cy="490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Line 26"/>
          <p:cNvSpPr/>
          <p:nvPr/>
        </p:nvSpPr>
        <p:spPr>
          <a:xfrm flipH="1" flipV="1">
            <a:off x="3362040" y="5084280"/>
            <a:ext cx="376200" cy="490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Line 27"/>
          <p:cNvSpPr/>
          <p:nvPr/>
        </p:nvSpPr>
        <p:spPr>
          <a:xfrm flipH="1">
            <a:off x="3362040" y="4933800"/>
            <a:ext cx="603000" cy="150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2835360" y="4933800"/>
            <a:ext cx="527040" cy="150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3362400" y="4481640"/>
            <a:ext cx="1440" cy="603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Freeform 30"/>
          <p:cNvSpPr/>
          <p:nvPr/>
        </p:nvSpPr>
        <p:spPr>
          <a:xfrm flipH="1" rot="10800000">
            <a:off x="3359520" y="6389640"/>
            <a:ext cx="8170920" cy="1295280"/>
          </a:xfrm>
          <a:custGeom>
            <a:avLst/>
            <a:gdLst>
              <a:gd name="textAreaLeft" fmla="*/ -360 w 8170920"/>
              <a:gd name="textAreaRight" fmla="*/ 8170920 w 8170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18468"/>
                </a:moveTo>
                <a:lnTo>
                  <a:pt x="21600" y="0"/>
                </a:lnTo>
                <a:lnTo>
                  <a:pt x="0" y="0"/>
                </a:lnTo>
                <a:lnTo>
                  <a:pt x="0" y="21600"/>
                </a:lnTo>
              </a:path>
            </a:pathLst>
          </a:custGeom>
          <a:noFill/>
          <a:ln w="1015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31"/>
          <p:cNvSpPr/>
          <p:nvPr/>
        </p:nvSpPr>
        <p:spPr>
          <a:xfrm rot="19200000">
            <a:off x="2108160" y="4036680"/>
            <a:ext cx="1054080" cy="342720"/>
          </a:xfrm>
          <a:prstGeom prst="rightArrow">
            <a:avLst>
              <a:gd name="adj1" fmla="val 42676"/>
              <a:gd name="adj2" fmla="val 12106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6164" dir="2573584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AutoShape 32"/>
          <p:cNvSpPr/>
          <p:nvPr/>
        </p:nvSpPr>
        <p:spPr>
          <a:xfrm rot="1860000">
            <a:off x="2142720" y="5889240"/>
            <a:ext cx="1054080" cy="343080"/>
          </a:xfrm>
          <a:prstGeom prst="rightArrow">
            <a:avLst>
              <a:gd name="adj1" fmla="val 42676"/>
              <a:gd name="adj2" fmla="val 1209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6164" dir="2573584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AutoShape 33"/>
          <p:cNvSpPr/>
          <p:nvPr/>
        </p:nvSpPr>
        <p:spPr>
          <a:xfrm rot="19200000">
            <a:off x="8265960" y="3524040"/>
            <a:ext cx="1054080" cy="342720"/>
          </a:xfrm>
          <a:prstGeom prst="rightArrow">
            <a:avLst>
              <a:gd name="adj1" fmla="val 42676"/>
              <a:gd name="adj2" fmla="val 12106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6164" dir="2573584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AutoShape 34"/>
          <p:cNvSpPr/>
          <p:nvPr/>
        </p:nvSpPr>
        <p:spPr>
          <a:xfrm rot="1860000">
            <a:off x="8329320" y="5692320"/>
            <a:ext cx="1054080" cy="343080"/>
          </a:xfrm>
          <a:prstGeom prst="rightArrow">
            <a:avLst>
              <a:gd name="adj1" fmla="val 42676"/>
              <a:gd name="adj2" fmla="val 1209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6164" dir="2573584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4426560" y="4641480"/>
            <a:ext cx="12290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nflue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&amp; acc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Rectangle 36"/>
          <p:cNvSpPr/>
          <p:nvPr/>
        </p:nvSpPr>
        <p:spPr>
          <a:xfrm>
            <a:off x="3241080" y="4072680"/>
            <a:ext cx="272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2534040" y="4656960"/>
            <a:ext cx="195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Rectangle 38"/>
          <p:cNvSpPr/>
          <p:nvPr/>
        </p:nvSpPr>
        <p:spPr>
          <a:xfrm>
            <a:off x="2698200" y="5444280"/>
            <a:ext cx="22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Rectangle 39"/>
          <p:cNvSpPr/>
          <p:nvPr/>
        </p:nvSpPr>
        <p:spPr>
          <a:xfrm>
            <a:off x="3829320" y="5469840"/>
            <a:ext cx="195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4062600" y="465696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208080" y="3894120"/>
            <a:ext cx="19047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ulnerability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4521240" y="5446800"/>
            <a:ext cx="973080" cy="144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Line 43"/>
          <p:cNvSpPr/>
          <p:nvPr/>
        </p:nvSpPr>
        <p:spPr>
          <a:xfrm>
            <a:off x="4559400" y="4368960"/>
            <a:ext cx="97308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2527200" y="2870280"/>
            <a:ext cx="16891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velihood asset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8496360" y="4292640"/>
            <a:ext cx="1689120" cy="939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8496360" y="4356000"/>
            <a:ext cx="1689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velihood strategy 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8496360" y="2997360"/>
            <a:ext cx="1689120" cy="939600"/>
            <a:chOff x="8496360" y="2997360"/>
            <a:chExt cx="1689120" cy="939600"/>
          </a:xfrm>
        </p:grpSpPr>
        <p:sp>
          <p:nvSpPr>
            <p:cNvPr id="143" name="Rectangle 4"/>
            <p:cNvSpPr/>
            <p:nvPr/>
          </p:nvSpPr>
          <p:spPr>
            <a:xfrm>
              <a:off x="8496360" y="2997360"/>
              <a:ext cx="1689120" cy="939600"/>
            </a:xfrm>
            <a:prstGeom prst="rect">
              <a:avLst/>
            </a:prstGeom>
            <a:solidFill>
              <a:srgbClr val="ffff00">
                <a:alpha val="80000"/>
              </a:srgbClr>
            </a:solidFill>
            <a:ln w="12600">
              <a:solidFill>
                <a:srgbClr val="00000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8496360" y="3060360"/>
              <a:ext cx="16891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</a:rPr>
                <a:t>livelihood strategy C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45" name="Group 9"/>
          <p:cNvGrpSpPr/>
          <p:nvPr/>
        </p:nvGrpSpPr>
        <p:grpSpPr>
          <a:xfrm>
            <a:off x="8496360" y="5587920"/>
            <a:ext cx="1689120" cy="939960"/>
            <a:chOff x="8496360" y="5587920"/>
            <a:chExt cx="1689120" cy="939960"/>
          </a:xfrm>
        </p:grpSpPr>
        <p:sp>
          <p:nvSpPr>
            <p:cNvPr id="146" name="Rectangle 7"/>
            <p:cNvSpPr/>
            <p:nvPr/>
          </p:nvSpPr>
          <p:spPr>
            <a:xfrm>
              <a:off x="8496360" y="5587920"/>
              <a:ext cx="1689120" cy="939960"/>
            </a:xfrm>
            <a:prstGeom prst="rect">
              <a:avLst/>
            </a:prstGeom>
            <a:solidFill>
              <a:srgbClr val="ffff00">
                <a:alpha val="80000"/>
              </a:srgbClr>
            </a:solidFill>
            <a:ln w="12600">
              <a:solidFill>
                <a:srgbClr val="00000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8496360" y="5651280"/>
              <a:ext cx="1689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</a:rPr>
                <a:t>livelihood strategy 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48" name="Group 12"/>
          <p:cNvGrpSpPr/>
          <p:nvPr/>
        </p:nvGrpSpPr>
        <p:grpSpPr>
          <a:xfrm>
            <a:off x="8496360" y="1701720"/>
            <a:ext cx="1689120" cy="939960"/>
            <a:chOff x="8496360" y="1701720"/>
            <a:chExt cx="1689120" cy="939960"/>
          </a:xfrm>
        </p:grpSpPr>
        <p:sp>
          <p:nvSpPr>
            <p:cNvPr id="149" name="Rectangle 10"/>
            <p:cNvSpPr/>
            <p:nvPr/>
          </p:nvSpPr>
          <p:spPr>
            <a:xfrm>
              <a:off x="8496360" y="1701720"/>
              <a:ext cx="1689120" cy="939960"/>
            </a:xfrm>
            <a:prstGeom prst="rect">
              <a:avLst/>
            </a:prstGeom>
            <a:solidFill>
              <a:srgbClr val="ffff00">
                <a:alpha val="55000"/>
              </a:srgbClr>
            </a:solidFill>
            <a:ln w="12600">
              <a:solidFill>
                <a:srgbClr val="000000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>
              <a:off x="8496360" y="1765080"/>
              <a:ext cx="1689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</a:rPr>
                <a:t>livelihood strategy D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1" name="Group 15"/>
          <p:cNvGrpSpPr/>
          <p:nvPr/>
        </p:nvGrpSpPr>
        <p:grpSpPr>
          <a:xfrm>
            <a:off x="8496360" y="6883560"/>
            <a:ext cx="1689120" cy="939600"/>
            <a:chOff x="8496360" y="6883560"/>
            <a:chExt cx="1689120" cy="939600"/>
          </a:xfrm>
        </p:grpSpPr>
        <p:sp>
          <p:nvSpPr>
            <p:cNvPr id="152" name="Rectangle 13"/>
            <p:cNvSpPr/>
            <p:nvPr/>
          </p:nvSpPr>
          <p:spPr>
            <a:xfrm>
              <a:off x="8496360" y="6883560"/>
              <a:ext cx="1689120" cy="939600"/>
            </a:xfrm>
            <a:prstGeom prst="rect">
              <a:avLst/>
            </a:prstGeom>
            <a:solidFill>
              <a:srgbClr val="ffff00">
                <a:alpha val="55000"/>
              </a:srgbClr>
            </a:solidFill>
            <a:ln w="12600">
              <a:solidFill>
                <a:srgbClr val="000000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8496360" y="6946560"/>
              <a:ext cx="16891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</a:rPr>
                <a:t>livelihood strategy 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154" name="Picture 16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8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1066680" y="1574640"/>
            <a:ext cx="250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Divers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195120" y="3879720"/>
            <a:ext cx="1905120" cy="203220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Freeform 21"/>
          <p:cNvSpPr/>
          <p:nvPr/>
        </p:nvSpPr>
        <p:spPr>
          <a:xfrm>
            <a:off x="1133640" y="2422440"/>
            <a:ext cx="5829120" cy="1460520"/>
          </a:xfrm>
          <a:custGeom>
            <a:avLst/>
            <a:gdLst>
              <a:gd name="textAreaLeft" fmla="*/ 0 w 5829120"/>
              <a:gd name="textAreaRight" fmla="*/ 5829480 w 5829120"/>
              <a:gd name="textAreaTop" fmla="*/ 0 h 1460520"/>
              <a:gd name="textAreaBottom" fmla="*/ 146088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8060"/>
                </a:moveTo>
                <a:lnTo>
                  <a:pt x="21600" y="0"/>
                </a:lnTo>
                <a:lnTo>
                  <a:pt x="0" y="0"/>
                </a:lnTo>
                <a:lnTo>
                  <a:pt x="0" y="21600"/>
                </a:lnTo>
              </a:path>
            </a:pathLst>
          </a:custGeom>
          <a:noFill/>
          <a:ln w="101520">
            <a:solidFill>
              <a:srgbClr val="0000ff">
                <a:alpha val="40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0" name="Rectangle 22" descr=""/>
          <p:cNvPicPr/>
          <p:nvPr/>
        </p:nvPicPr>
        <p:blipFill>
          <a:blip r:embed="rId3"/>
          <a:stretch/>
        </p:blipFill>
        <p:spPr>
          <a:xfrm>
            <a:off x="128520" y="4516560"/>
            <a:ext cx="2157480" cy="14824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3"/>
          <p:cNvSpPr/>
          <p:nvPr/>
        </p:nvSpPr>
        <p:spPr>
          <a:xfrm>
            <a:off x="2527200" y="2806560"/>
            <a:ext cx="1689120" cy="863640"/>
          </a:xfrm>
          <a:prstGeom prst="rect">
            <a:avLst/>
          </a:prstGeom>
          <a:solidFill>
            <a:srgbClr val="ffff00">
              <a:alpha val="20000"/>
            </a:srgbClr>
          </a:solidFill>
          <a:ln w="1260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5651640" y="2832120"/>
            <a:ext cx="2577960" cy="119376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3" name="Rectangle 25" descr=""/>
          <p:cNvPicPr/>
          <p:nvPr/>
        </p:nvPicPr>
        <p:blipFill>
          <a:blip r:embed="rId4"/>
          <a:stretch/>
        </p:blipFill>
        <p:spPr>
          <a:xfrm>
            <a:off x="5688000" y="2736720"/>
            <a:ext cx="2608200" cy="1433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6"/>
          <p:cNvSpPr/>
          <p:nvPr/>
        </p:nvSpPr>
        <p:spPr>
          <a:xfrm>
            <a:off x="10312560" y="3060720"/>
            <a:ext cx="2577960" cy="93996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5" name="Rectangle 27" descr=""/>
          <p:cNvPicPr/>
          <p:nvPr/>
        </p:nvPicPr>
        <p:blipFill>
          <a:blip r:embed="rId5"/>
          <a:stretch/>
        </p:blipFill>
        <p:spPr>
          <a:xfrm>
            <a:off x="10339560" y="3011400"/>
            <a:ext cx="2522520" cy="1176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8"/>
          <p:cNvSpPr/>
          <p:nvPr/>
        </p:nvSpPr>
        <p:spPr>
          <a:xfrm>
            <a:off x="10312560" y="4000680"/>
            <a:ext cx="2577960" cy="256536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7" name="Rectangle 29" descr=""/>
          <p:cNvPicPr/>
          <p:nvPr/>
        </p:nvPicPr>
        <p:blipFill>
          <a:blip r:embed="rId6"/>
          <a:stretch/>
        </p:blipFill>
        <p:spPr>
          <a:xfrm>
            <a:off x="10217160" y="4095720"/>
            <a:ext cx="2760480" cy="2476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0"/>
          <p:cNvSpPr/>
          <p:nvPr/>
        </p:nvSpPr>
        <p:spPr>
          <a:xfrm>
            <a:off x="5651640" y="4025880"/>
            <a:ext cx="2577960" cy="309888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9" name="Rectangle 31" descr=""/>
          <p:cNvPicPr/>
          <p:nvPr/>
        </p:nvPicPr>
        <p:blipFill>
          <a:blip r:embed="rId7"/>
          <a:stretch/>
        </p:blipFill>
        <p:spPr>
          <a:xfrm>
            <a:off x="5651640" y="4425840"/>
            <a:ext cx="271116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32" descr=""/>
          <p:cNvPicPr/>
          <p:nvPr/>
        </p:nvPicPr>
        <p:blipFill>
          <a:blip r:embed="rId8"/>
          <a:stretch/>
        </p:blipFill>
        <p:spPr>
          <a:xfrm>
            <a:off x="5608800" y="3925800"/>
            <a:ext cx="2644560" cy="1768680"/>
          </a:xfrm>
          <a:prstGeom prst="rect">
            <a:avLst/>
          </a:prstGeom>
          <a:ln w="0">
            <a:noFill/>
          </a:ln>
        </p:spPr>
      </p:pic>
      <p:sp>
        <p:nvSpPr>
          <p:cNvPr id="171" name="Line 33"/>
          <p:cNvSpPr/>
          <p:nvPr/>
        </p:nvSpPr>
        <p:spPr>
          <a:xfrm flipH="1">
            <a:off x="5651640" y="4905360"/>
            <a:ext cx="2573280" cy="1774800"/>
          </a:xfrm>
          <a:prstGeom prst="line">
            <a:avLst/>
          </a:prstGeom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Line 34"/>
          <p:cNvSpPr/>
          <p:nvPr/>
        </p:nvSpPr>
        <p:spPr>
          <a:xfrm flipH="1">
            <a:off x="2984400" y="5084640"/>
            <a:ext cx="378000" cy="490680"/>
          </a:xfrm>
          <a:prstGeom prst="line">
            <a:avLst/>
          </a:prstGeom>
          <a:ln w="38160">
            <a:solidFill>
              <a:srgbClr val="0000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35"/>
          <p:cNvSpPr/>
          <p:nvPr/>
        </p:nvSpPr>
        <p:spPr>
          <a:xfrm flipH="1" flipV="1">
            <a:off x="3362040" y="5084280"/>
            <a:ext cx="376200" cy="490680"/>
          </a:xfrm>
          <a:prstGeom prst="line">
            <a:avLst/>
          </a:prstGeom>
          <a:ln w="38160">
            <a:solidFill>
              <a:srgbClr val="0000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36"/>
          <p:cNvSpPr/>
          <p:nvPr/>
        </p:nvSpPr>
        <p:spPr>
          <a:xfrm flipH="1">
            <a:off x="3362040" y="4933800"/>
            <a:ext cx="603000" cy="150840"/>
          </a:xfrm>
          <a:prstGeom prst="line">
            <a:avLst/>
          </a:prstGeom>
          <a:ln w="38160">
            <a:solidFill>
              <a:srgbClr val="0000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37"/>
          <p:cNvSpPr/>
          <p:nvPr/>
        </p:nvSpPr>
        <p:spPr>
          <a:xfrm>
            <a:off x="2835360" y="4933800"/>
            <a:ext cx="527040" cy="150840"/>
          </a:xfrm>
          <a:prstGeom prst="line">
            <a:avLst/>
          </a:prstGeom>
          <a:ln w="38160">
            <a:solidFill>
              <a:srgbClr val="0000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38"/>
          <p:cNvSpPr/>
          <p:nvPr/>
        </p:nvSpPr>
        <p:spPr>
          <a:xfrm>
            <a:off x="3362400" y="4481640"/>
            <a:ext cx="1440" cy="603000"/>
          </a:xfrm>
          <a:prstGeom prst="line">
            <a:avLst/>
          </a:prstGeom>
          <a:ln w="38160">
            <a:solidFill>
              <a:srgbClr val="0000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Freeform 39"/>
          <p:cNvSpPr/>
          <p:nvPr/>
        </p:nvSpPr>
        <p:spPr>
          <a:xfrm flipH="1" rot="10800000">
            <a:off x="3359520" y="6389640"/>
            <a:ext cx="8170920" cy="1295280"/>
          </a:xfrm>
          <a:custGeom>
            <a:avLst/>
            <a:gdLst>
              <a:gd name="textAreaLeft" fmla="*/ -360 w 8170920"/>
              <a:gd name="textAreaRight" fmla="*/ 8170920 w 8170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18468"/>
                </a:moveTo>
                <a:lnTo>
                  <a:pt x="21600" y="0"/>
                </a:lnTo>
                <a:lnTo>
                  <a:pt x="0" y="0"/>
                </a:lnTo>
                <a:lnTo>
                  <a:pt x="0" y="21600"/>
                </a:lnTo>
              </a:path>
            </a:pathLst>
          </a:custGeom>
          <a:noFill/>
          <a:ln w="101520">
            <a:solidFill>
              <a:srgbClr val="0000ff">
                <a:alpha val="40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AutoShape 40"/>
          <p:cNvSpPr/>
          <p:nvPr/>
        </p:nvSpPr>
        <p:spPr>
          <a:xfrm rot="19200000">
            <a:off x="2108160" y="4036680"/>
            <a:ext cx="1054080" cy="342720"/>
          </a:xfrm>
          <a:prstGeom prst="rightArrow">
            <a:avLst>
              <a:gd name="adj1" fmla="val 42676"/>
              <a:gd name="adj2" fmla="val 121060"/>
            </a:avLst>
          </a:prstGeom>
          <a:solidFill>
            <a:srgbClr val="ffffff">
              <a:alpha val="40000"/>
            </a:srgbClr>
          </a:solidFill>
          <a:ln w="12600">
            <a:solidFill>
              <a:srgbClr val="000000">
                <a:alpha val="40000"/>
              </a:srgbClr>
            </a:solidFill>
            <a:miter/>
          </a:ln>
          <a:effectLst>
            <a:outerShdw dist="76164" dir="2573584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AutoShape 41"/>
          <p:cNvSpPr/>
          <p:nvPr/>
        </p:nvSpPr>
        <p:spPr>
          <a:xfrm rot="1860000">
            <a:off x="2142720" y="5889240"/>
            <a:ext cx="1054080" cy="343080"/>
          </a:xfrm>
          <a:prstGeom prst="rightArrow">
            <a:avLst>
              <a:gd name="adj1" fmla="val 42676"/>
              <a:gd name="adj2" fmla="val 120933"/>
            </a:avLst>
          </a:prstGeom>
          <a:solidFill>
            <a:srgbClr val="ffffff">
              <a:alpha val="40000"/>
            </a:srgbClr>
          </a:solidFill>
          <a:ln w="12600">
            <a:solidFill>
              <a:srgbClr val="000000">
                <a:alpha val="40000"/>
              </a:srgbClr>
            </a:solidFill>
            <a:miter/>
          </a:ln>
          <a:effectLst>
            <a:outerShdw dist="76164" dir="2573584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0" name="Rectangle 42" descr=""/>
          <p:cNvPicPr/>
          <p:nvPr/>
        </p:nvPicPr>
        <p:blipFill>
          <a:blip r:embed="rId9"/>
          <a:stretch/>
        </p:blipFill>
        <p:spPr>
          <a:xfrm>
            <a:off x="4237200" y="4479840"/>
            <a:ext cx="1609560" cy="93996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43" descr=""/>
          <p:cNvPicPr/>
          <p:nvPr/>
        </p:nvPicPr>
        <p:blipFill>
          <a:blip r:embed="rId10"/>
          <a:stretch/>
        </p:blipFill>
        <p:spPr>
          <a:xfrm>
            <a:off x="3029040" y="3968640"/>
            <a:ext cx="689040" cy="74952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44" descr=""/>
          <p:cNvPicPr/>
          <p:nvPr/>
        </p:nvPicPr>
        <p:blipFill>
          <a:blip r:embed="rId11"/>
          <a:stretch/>
        </p:blipFill>
        <p:spPr>
          <a:xfrm>
            <a:off x="2298600" y="4548240"/>
            <a:ext cx="669960" cy="749160"/>
          </a:xfrm>
          <a:prstGeom prst="rect">
            <a:avLst/>
          </a:prstGeom>
          <a:ln w="0">
            <a:noFill/>
          </a:ln>
        </p:spPr>
      </p:pic>
      <p:pic>
        <p:nvPicPr>
          <p:cNvPr id="183" name="Rectangle 45" descr=""/>
          <p:cNvPicPr/>
          <p:nvPr/>
        </p:nvPicPr>
        <p:blipFill>
          <a:blip r:embed="rId12"/>
          <a:stretch/>
        </p:blipFill>
        <p:spPr>
          <a:xfrm>
            <a:off x="2475000" y="5340240"/>
            <a:ext cx="669960" cy="749520"/>
          </a:xfrm>
          <a:prstGeom prst="rect">
            <a:avLst/>
          </a:prstGeom>
          <a:ln w="0">
            <a:noFill/>
          </a:ln>
        </p:spPr>
      </p:pic>
      <p:pic>
        <p:nvPicPr>
          <p:cNvPr id="184" name="Rectangle 46" descr=""/>
          <p:cNvPicPr/>
          <p:nvPr/>
        </p:nvPicPr>
        <p:blipFill>
          <a:blip r:embed="rId13"/>
          <a:stretch/>
        </p:blipFill>
        <p:spPr>
          <a:xfrm>
            <a:off x="3602160" y="5364000"/>
            <a:ext cx="645840" cy="75096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47" descr=""/>
          <p:cNvPicPr/>
          <p:nvPr/>
        </p:nvPicPr>
        <p:blipFill>
          <a:blip r:embed="rId14"/>
          <a:stretch/>
        </p:blipFill>
        <p:spPr>
          <a:xfrm>
            <a:off x="3859200" y="4548240"/>
            <a:ext cx="689040" cy="74916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48" descr=""/>
          <p:cNvPicPr/>
          <p:nvPr/>
        </p:nvPicPr>
        <p:blipFill>
          <a:blip r:embed="rId15"/>
          <a:stretch/>
        </p:blipFill>
        <p:spPr>
          <a:xfrm>
            <a:off x="19080" y="3700440"/>
            <a:ext cx="2413080" cy="1090800"/>
          </a:xfrm>
          <a:prstGeom prst="rect">
            <a:avLst/>
          </a:prstGeom>
          <a:ln w="0">
            <a:noFill/>
          </a:ln>
        </p:spPr>
      </p:pic>
      <p:sp>
        <p:nvSpPr>
          <p:cNvPr id="187" name="Line 49"/>
          <p:cNvSpPr/>
          <p:nvPr/>
        </p:nvSpPr>
        <p:spPr>
          <a:xfrm>
            <a:off x="4521240" y="5446800"/>
            <a:ext cx="973080" cy="1440"/>
          </a:xfrm>
          <a:prstGeom prst="line">
            <a:avLst/>
          </a:prstGeom>
          <a:ln w="63360">
            <a:solidFill>
              <a:srgbClr val="000000">
                <a:alpha val="40000"/>
              </a:srgbClr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50"/>
          <p:cNvSpPr/>
          <p:nvPr/>
        </p:nvSpPr>
        <p:spPr>
          <a:xfrm>
            <a:off x="4559400" y="4368960"/>
            <a:ext cx="973080" cy="0"/>
          </a:xfrm>
          <a:prstGeom prst="line">
            <a:avLst/>
          </a:prstGeom>
          <a:ln w="63360">
            <a:solidFill>
              <a:srgbClr val="000000">
                <a:alpha val="40000"/>
              </a:srgbClr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1203480" y="2819520"/>
            <a:ext cx="110995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7520" indent="-317520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spcBef>
                <a:spcPts val="2500"/>
              </a:spcBef>
              <a:buClr>
                <a:srgbClr val="ff7f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7f00"/>
                </a:solidFill>
                <a:latin typeface="Gill Sans"/>
              </a:rPr>
              <a:t>System perspec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2160" y="8381880"/>
            <a:ext cx="4259160" cy="124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8591400" y="8358120"/>
            <a:ext cx="4259520" cy="13384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318960" y="174600"/>
            <a:ext cx="1235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Gill Sans Light"/>
              </a:rPr>
              <a:t>Why and how to implement an R&amp;D framework for Africa RISING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55560" y="2819520"/>
            <a:ext cx="12195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7520" indent="-317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Demand-driven R4D:  Whose deman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Livelihoods focus: Context (of farming practic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 Light"/>
              </a:rPr>
              <a:t>Diversity: Differentiated demand/options (for SI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525600" y="2836800"/>
            <a:ext cx="11953800" cy="2111400"/>
          </a:xfrm>
          <a:prstGeom prst="roundRect">
            <a:avLst>
              <a:gd name="adj" fmla="val 5782"/>
            </a:avLst>
          </a:prstGeom>
          <a:noFill/>
          <a:ln w="5076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0880" y="1574640"/>
            <a:ext cx="354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Key Concepts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AutoShape 8"/>
          <p:cNvSpPr/>
          <p:nvPr/>
        </p:nvSpPr>
        <p:spPr>
          <a:xfrm rot="16200000">
            <a:off x="2317320" y="5212800"/>
            <a:ext cx="876600" cy="635040"/>
          </a:xfrm>
          <a:prstGeom prst="rightArrow">
            <a:avLst>
              <a:gd name="adj1" fmla="val 46000"/>
              <a:gd name="adj2" fmla="val 69019"/>
            </a:avLst>
          </a:prstGeom>
          <a:solidFill>
            <a:srgbClr val="ff7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601800" y="1574640"/>
            <a:ext cx="3003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&amp; Approa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22:07:04Z</dcterms:created>
  <dc:creator>Valbuena, Diego (ILRI)</dc:creator>
  <dc:description/>
  <dc:language>en-US</dc:language>
  <cp:lastModifiedBy>dvalbuena</cp:lastModifiedBy>
  <dcterms:modified xsi:type="dcterms:W3CDTF">2012-09-13T04:34:27Z</dcterms:modified>
  <cp:revision>6</cp:revision>
  <dc:subject/>
  <dc:title>Slide 1</dc:title>
</cp:coreProperties>
</file>